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65E-BBA6-4931-993D-CBF8B9FB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237-D7E8-420D-95FF-09F519D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A30-A2D3-40CD-892D-9A0F8EDC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ABE-90FB-439B-B3E2-A1D0EF6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B82-C861-44E1-AF28-660DA4E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E02-C439-4091-8AEA-A39FB079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D33-43D0-4D24-990B-00871EC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A8B-D6FD-48EC-9033-4E32EB0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0F9-AC7C-4C09-9F1F-3C6DECA2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9C9-B54A-4B04-A5D1-B73415F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16E-5B24-40A1-84F7-1ECCE76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D7E-C746-40E0-AE87-AFE42CE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00B-ECB5-487D-9128-ABDA18BD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ehillcollege.typepad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341360"/>
            <a:ext cx="77752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 sheets on the desks to work out how to say all the countries in the European Union in Spanish- write the English next to the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79640" y="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 Uni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 Europea (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17680"/>
            <a:ext cx="835344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oy a favor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in favour of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estoy a favor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not in favou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nso que 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o que es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elieve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o que es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ear that i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pos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nega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o perjud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hing harm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benefic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W DO YOU THINK WE SAY “TO BENEFI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 s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ued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y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baj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xtranj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e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uanto 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regard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3716280"/>
            <a:ext cx="2808360" cy="188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 the voc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airs, answer the questions- 1 of the pair must stay seated with the questions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36640"/>
            <a:ext cx="7848720" cy="508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gehillcollege.typepa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ersonal descriptions are now on the blog as Guess-Who style descriptions- leave 5 comments working out who each description is b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finished by Thursday 3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836640"/>
            <a:ext cx="7848720" cy="268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of 50 words, typed, on your opinions of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19:46Z</dcterms:created>
  <dc:creator>Owner1</dc:creator>
  <dc:description/>
  <dc:language>en-US</dc:language>
  <cp:lastModifiedBy>Owner1</cp:lastModifiedBy>
  <dcterms:modified xsi:type="dcterms:W3CDTF">2008-10-28T16:35:57Z</dcterms:modified>
  <cp:revision>5</cp:revision>
  <dc:subject/>
  <dc:title>Slide 1</dc:title>
</cp:coreProperties>
</file>